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1A3-9B81-4C1B-8C14-6C9BF447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535-4FBC-418B-8C36-3B3C69CC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403-FE73-4275-BCF7-1208D7E0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EEE-EC52-4674-B2E8-F63ACD1D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C5C-51ED-49B0-93BF-12E723A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47A-8243-4540-95C0-49FE7EDB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C8D-8C49-41E0-8AF6-98C3075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EC1-4932-49E8-A2D0-1DBDD4A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6E7-2776-454B-9210-36423EDC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E55-9717-45A5-A7AD-211AC54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96F-4DE6-4A08-86B5-37B8CBF7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77C-1C62-4703-B27C-326E1D1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39CE-7A24-4D04-B4BF-8DDDE5480C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产品名称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zh-CN" sz="1600" spc="-1" strike="noStrike">
                <a:solidFill>
                  <a:srgbClr val="ff0000"/>
                </a:solidFill>
                <a:latin typeface="Calibri"/>
              </a:rPr>
              <a:t>报名公司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17680"/>
            <a:ext cx="822960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样品照片请附在此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2920" y="500040"/>
          <a:ext cx="8929800" cy="5184720"/>
        </p:xfrm>
        <a:graphic>
          <a:graphicData uri="http://schemas.openxmlformats.org/drawingml/2006/table">
            <a:tbl>
              <a:tblPr/>
              <a:tblGrid>
                <a:gridCol w="1260360"/>
                <a:gridCol w="1368360"/>
                <a:gridCol w="1295640"/>
                <a:gridCol w="1225440"/>
                <a:gridCol w="2016000"/>
                <a:gridCol w="1764000"/>
              </a:tblGrid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产品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厂家（产地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型号规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已在应用的广东三甲医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不少于三家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考价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性能、特点、专利说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~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3T08:34:00Z</dcterms:created>
  <dc:creator>Administrator</dc:creator>
  <dc:description/>
  <dc:language>en-US</dc:language>
  <cp:lastModifiedBy>许培华</cp:lastModifiedBy>
  <dcterms:modified xsi:type="dcterms:W3CDTF">2020-03-19T03:48:38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00</vt:lpwstr>
  </property>
</Properties>
</file>